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4A83-6A79-4BBD-87B5-42910AFC4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091D-834F-4046-AED4-645A381B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04EE2-4459-44B8-867A-9CBBC016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018ED-81CA-4707-A881-1CC3BE53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9B831-8C1E-4EFE-81AE-D342510E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555E6-5BD5-46C4-8DF5-350C301D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C09D3-FE78-46A3-BE7D-740F76C8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3FE92-E35D-4B32-BDC4-F295E2DB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A2F26-6621-4364-A79E-E77C255F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B4373-3E18-4EDA-A89E-D6D5E9F7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821CF-D06B-4111-8D5B-76903306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FA57B-ABBD-4397-BD3D-0F0EAA6D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BFE5-D60F-459D-974C-AC528981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D4CF7-C28D-4C90-B048-F5B0B347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99095-D257-42F5-8B56-7F461A59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6533C-3FAB-4315-86AC-D87B48F7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B4427-C1A8-497E-A970-FB8AC461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9784D-ACA4-4945-93FB-272E837B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47FCC-400E-47A1-B226-5966AE77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9D7FD-27A0-48CD-BE1A-4A3901AC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0931A-492B-45F8-BBF9-157D39FD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9470C4-A11E-4539-A475-F3FCADB7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AC653-06A2-4B15-9442-836352518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3F3D-272F-4758-B9DD-E6CFDF9F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78E1F-2E8F-44D0-B2A2-736DCF3E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9DA56-3536-4950-91E0-2059BE033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5E5B7-0B7A-4F62-9E75-644160FC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AD50C-E436-4577-9B27-05DF0241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DBD11-EECC-4718-AE7A-65366A83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35C63-4C8F-47D8-A7AD-9937B0F8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CCFD5-973E-4832-8E8E-4B2EA25B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D1383-1BEC-493F-B6B5-D368B1C7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24A52-7681-4178-A6DF-C4E16D15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D7DF7-56DC-4D2C-B884-03134CC5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61F9-F709-4854-AB31-D09B35670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CFD37-4FA2-420C-AD10-BBA93C37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31B50-F9B2-47AA-9F43-EACF212F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3E8D6-39C0-4661-B232-D07373D1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C3FAB-2E11-4755-A462-9A477047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FBE11-044E-4149-B562-C7E053B8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F94CE-C909-4342-B383-01AC96A3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FD15E-9F7C-493A-844B-382587AB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95886-DA33-45E9-8FCA-F850D93F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461D3-2C9C-40A0-9C61-AF21EC80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D3026-446E-4971-9BE6-838956BC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4B7A-C122-4D5E-B96D-195BF797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F5DC9-7D05-445B-863C-C857A8F1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D003F-7027-4D45-B809-32D9618B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44F61-5A35-4E7D-A873-9270098B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3C24C-E66C-4DBB-AB49-BFBFA507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09652-E89D-4698-B577-E54260DE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D98A83-8598-41B0-BBE2-9A8FEF0A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34DF4F-99F9-4155-A2A5-E69F32EE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537082-70CD-436E-BD67-C6218711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C28EE5-46E3-4472-B0A6-1694BA27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164047-AE97-4250-B586-9023C907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0FF7-0914-49DE-985A-9A006CD9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9050E9-5897-4B1C-A26E-7B3ACAFD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B1D754-5E8F-4D69-884A-DDD1CE12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6F2B59-6B45-4731-9EB0-92A2C4FB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EE2E55-2586-47D2-B39E-CC654EA4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051432-37DC-45DB-8BE3-F26AE73F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0FB530-CB6F-494A-80A3-19FBF403A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C8505F-6017-478C-8316-5EFAD222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96971F-00AD-4ADA-827F-3FDC5C66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53706B-57F2-4894-990D-43D5BE7F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922EC8-BF5F-45E1-A643-11FD4464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E76E-C7CE-4946-8E90-7E28D26A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BEFF5D-3BFD-49BA-9840-9A03F3EE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1F0F56-1BF2-44A0-9877-AB3B6CF0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81AA32-B990-47DC-9460-420DEECB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70A943-6822-4193-9EA0-3A92E3E5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044667-63DA-4005-B57F-0616482D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1B1AE3-3EBE-448E-A9EE-122F0C45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054FCF-049E-490A-9C18-5F2DCF4B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DAC97F-66F9-4D79-BA3A-74A6F8CA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58D525-BB83-4388-B72D-6CBF9E75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1D1ED5-C24A-4268-9BF3-DAC2939E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C700-288D-42BE-8F39-238C5CF0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B07C29-1E6A-489B-B5B3-EAC88BEA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42251E-9BFA-4D35-8056-C2278928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267553-0EB0-44B6-9AF5-1F89BEEA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D25D2D-E089-4DA2-A03F-3CB02F2D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32E7ED-D203-4FD2-855F-47FCAC75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D6512B-A615-4E04-971C-878314BE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6DF029-1680-4BCA-BFBC-D9CAE927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D6A4C1-BE96-416D-857D-6BE0C387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F20CE3-0018-48FD-A3D6-A590DB00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4EB0DD-EDBB-4B8F-A6BF-E648B41E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235A-D750-4BDA-A7E2-975FD893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921EF9-3831-46B9-B0CC-069CE532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F35024-C24D-4209-A157-0BDDC102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5CB309-4FA9-4D3C-8C9A-4ED6688F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1095EC-DD4E-4223-B402-44D77594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571EB9-3E7E-4BB5-8DAC-C404945A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C3ABBC-FD18-4FCA-A75A-99F9D5F7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0B4FE2-91AF-4086-A790-07DC2FA9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AE5A2F-381F-461F-9756-D3FC92B2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C248BE-9913-4FB7-B77C-01969567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8D584E-86DD-47A4-83D2-E56B1B47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F2BA-F2A6-46BF-8910-3E13D2E5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2B2556-3DC4-4018-8675-E7C9A892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09BD69-1709-4617-9062-26317884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A93B4F-602D-4B4E-B215-EAEA774F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4DD395-05D7-4D92-A61D-26645796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5FE085-E4BA-4A9C-B05E-2334F403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35D3AE-E9AC-4787-8648-00D5C999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6E4F62-8560-439B-A942-0D109D88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9B1C56-9917-4F64-8CED-C0557786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6F918E-CF2C-44F3-80A9-A7564013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DF163F-8E8C-4A5B-A9C4-B70571D6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F40C-9C0C-41BF-B1C7-524919F4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5524-E07D-405D-8249-27E9E3E5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17391A-31BD-4A53-A54F-378AC7BB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E80DA9-CBDD-41D8-A70E-FBD44731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6B963F-8A04-4879-AAA0-C88D4103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375559-456D-4B59-8316-85E4BA6B8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6D8076-C225-41FA-83C6-0F7408A0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CAA5E0-2A9A-4789-BB7E-1D229D4B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2C5D36-C693-4D17-B89C-B26022E1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3012C1-646A-4A9A-AFD4-2FB237AD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53D94F-6678-4937-96F3-792B4272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BF2C02-F824-41C1-B18F-26AC5FD9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C0DB-81C5-4F38-8B8F-E981BD48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04B062-31C8-4FE3-B3D4-7F6609FF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CD7E4C-D343-4702-BCA7-AB39A922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7291EC-FEFC-46B4-8E17-05DB9D59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1506BA-905E-404D-9934-CFD58A4B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D9E7D1-8DA4-4F02-BCC6-2EEB3620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4CEA11-3F09-45E1-A7D3-085C633E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78E8C7-C89B-4CC3-A276-3AE8A1DF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AE97D1-D993-4D36-BBCC-AE1FD988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4B4427-FC36-4121-BEDD-089A51E0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0A2F62-0551-4B68-B7D7-DCCD10A2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FAA4-4E8D-4024-B605-36FA99D7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61E315-4AB5-4762-AE37-898564B0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D085F1-4367-416F-A5AA-798E0E78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7390F3-B210-41DC-B9A1-AE92D35F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8C5108-6CC0-4A05-87C5-A2CD43B1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5F482C-B6F9-4C1A-BED7-F91E9BC8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2A2666-38FA-49ED-975E-9B155B8C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2ED8FC-E66B-433F-A2AB-98077E84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D857C7-3E4C-44D7-BA29-B9D22D271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9B5A66-B05C-4408-9B98-1285BBDD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38EC6C-31E8-4215-994D-2EE45C05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337F-274C-4EBA-93B8-A7D8EDD1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23A4D0-12DD-4BCA-93CD-077BEC1A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4C9E81-408E-4B5B-BED1-561C28F0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27D4B7-0F1E-4A78-BE91-56099687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32B85B-6D57-4070-BD2B-1BECB2F7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F1C28B-5517-4382-8431-43D68A62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041CA9-11DF-4485-BBE4-39DCC676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E4CBF7-4CD6-49F3-BDE5-032F60D4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598A5B-9F8E-459A-8EC7-CFB085BB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78DF8E-AC73-4B93-B866-65388E9D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83A5CA-F428-4F87-A052-C7C754FA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8927-1FB8-44C6-953B-5D8F5522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484E4B-51B8-4F23-803F-B2ED4AFD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8878BA-8309-48B2-9ED0-D6C608BE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1826FF-EEFD-42CE-86C0-B12E4226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3EB573-16DB-4D5D-ABE6-714D95B0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DDBA74-C50C-416D-B63A-7A0EAC3C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8033FA-DF19-49BF-9FC6-657FBA00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4CBC6B-D00A-4B20-8649-AB261411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136FB0-F8C1-4F9E-B69F-232E758E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3013B2-0A29-4AEC-82A7-8C5F6D18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65958E-21A8-4E98-BAB5-C4AF0336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5B6FA-1484-49AB-BFF1-90F5874FE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91D057-6782-48F5-843C-4F7995D3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A7780B-CFB4-4221-A1E6-CED1136B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15D32A-7C45-4CB7-BD75-33DD72AE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539833-498A-41DF-A4E2-35BCB6AC3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4AC67F-22BA-4B75-AA8C-418A6C0C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DDAED4-5FC0-4B80-9530-A9F61AED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0BDCBE-EE47-4911-AE63-559E396E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B17B46-A992-4766-9BD1-3C9312FF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AC7F4F-05E0-4324-86E6-8454CDCC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5173AD-9BD7-4D44-9129-E516D27C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5B432-E91B-4BE2-AA31-F5D1A050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29594D-0ED8-4B50-98B6-2AD34A5F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3C046B-2C98-45DD-8E9F-05487813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022F0B-1018-441C-BCCF-F0FF74FD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5B5AAE-80C0-4426-B86B-04C107015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A4FF60-60FB-42F2-9ECF-20509BA2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58F484-7975-4C18-9261-6B4C7E2A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7A9F28-3E98-41C5-8FD8-19A7D2F7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363CAA-4EA7-40A0-B8D7-F02E31B9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30EE2A-C685-40C9-BB08-ABBC088F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FD67D8-DE6F-4992-8A8F-22F8DC45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59423-81E9-44E1-8B2A-08C255A7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0CC4DF-3617-41C0-BEED-20D1E8DB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FC3421-72F3-4D8B-AEB3-0AF776FB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F348FA-3EE2-47C1-BE12-0C1CD11F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54F5DD-3C71-48B0-AEE4-CBCA1E58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FCC484-A5D1-478F-89FD-63B46245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4E3A48-71E9-44B8-9E54-542EEDEA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62E7B7-CF43-43C3-AA67-7A999C7A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49C9E-7B09-4DDE-88CA-A809010A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63A61-89DC-472A-9ECB-3A96640C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A38E-0A16-448F-B833-AF348224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3DB1E-9FA2-4182-987B-D3BD81ED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A4182-9A12-412F-939C-BC5CA8F1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D3B78-D1FB-41AF-969D-8C986C0C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2E3FA-0651-415E-A78D-50049B29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A3534-BF83-4433-8D7C-AF1B9C29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3475C-2474-42D9-929E-D89C1AEC3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24495-5DD6-42E9-9ED4-4AE15850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FE95F-3477-4EBD-B9F3-8B57E350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B9718-178D-491D-9FEC-1009559A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8F085-8EB5-4FB4-A8ED-67283D2C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70B1-ACD5-4132-87FC-89B2768B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2E3C6-844E-4E75-8D52-D5F9D50C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2CA39-77AE-45BA-A02B-236385C2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E20A9-F463-4CA7-9FF7-10E65781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9278C-6DB7-4E4E-BA21-85402F4F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D1BF3-69A7-48C4-B1B9-B5B3A990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B83C2-AAA9-4E0B-957D-6A8FAFB5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C1B14-5FFD-4524-9DB5-62A354A5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713FE-781A-43D8-9121-DE29081F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B32A2-16F1-4A78-A23D-0F7BA85C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5C6C3-1164-44AC-B670-08C11282F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3A0D-95C3-423D-90BF-AD63110D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048A3-E5E6-40B6-9BE9-52AAE7A6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49847-1672-487A-BDD2-67DACBB7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D58C8-E041-4FDC-8AF2-BB2DB2C6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913B9-759E-4671-848F-BC59633B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1E715-9EBB-4F5F-8327-6E655821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E0359-683A-4289-8FE5-5123DACB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7E487-871A-40E5-9772-70F80DED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F4451-F536-446F-A040-8DABBEB1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EC47C-1689-40DD-9A10-8C7FD3B2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55A18-397A-4CC2-88C6-EA5B89DD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7AF4-F5E2-4DF6-ACC5-1C8C402F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665B5-6F75-4485-BBA0-D46F50B4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31E23-88D4-4774-8194-5D8C347C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A36F8-4C3D-4DD9-9DB7-E034327B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5D0D7-26A3-47F2-91BF-74B2DF9F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19554-C41F-4544-881E-315B9A6B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28FD7-6CF5-4CA0-B500-B369F913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869CE-8EB0-4AA7-B482-6642BF31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2CD56-B22A-4653-A037-00F066E3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51AF4-2061-4953-A153-7942579D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02DE6-FA74-464D-B25C-EFF7BB6C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9A9D-D668-48BE-A649-6C5A13EE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66FE4-99FE-49DB-84DA-0C695F0A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39CF6-1E95-4902-870F-D78E7700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DDC57-9CEB-45E4-8800-A4C81CFC8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EA9E7-917C-4632-8EB3-D29D4399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82187-D9DD-4DF4-A0E2-8DC5FEB3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00219-1987-4A47-A628-C908A339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34FEE-AA94-4887-A6E5-B152C813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FF0C4-20FA-43D5-9409-C3E57175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545E9-081A-4D88-A5AF-45547CF5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AC341-671C-49C6-A266-EC8B62C3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4488-CE46-4024-8E00-B729AAA4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BE42C-60E3-4CC4-B834-31EC4C24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63CE3-544E-4A9F-A4AB-56969845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B17BC-94BA-48B2-8EC6-272625A0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6F424-7DDE-4A1D-95C0-00D7DBCA1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96604-A823-4CD9-A28A-22238246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2BC7E-8156-4EAB-AA61-9664CF181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93D31-4B4E-4175-97A9-BF01D6AC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547EA-1928-482E-98DE-DBAC8C90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D7617-E33A-4694-A8CB-ECA8C8B7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92361-D0E7-46EF-8827-8325500A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277B-1C38-4CC9-B02E-721EFFD8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42C71-7B60-4D22-951D-04CBBFB0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C31A7-6FEF-4FDA-BAE9-AC70A298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D65C2-E608-4442-BF65-EDC2F254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E82C0-8D35-4828-87C3-B43FD53C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70E51-0289-4D2F-B974-038406F5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7ED8C-258D-471F-8F42-1915047A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BA6B0-CC04-49F0-B1CE-3677E331B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ACACC-E9EB-498A-B7BB-EDD912B4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838F7-1077-4F97-B29D-416AF590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E42FD-F462-47CF-A82F-823D6EDC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BB3C-C001-484F-959B-14C1A002B3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6C5B-8665-441A-928E-28F6C171F3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3B78-A3C8-4BBA-A7B5-F080F1F9E7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E612-797A-4BB7-98C7-57928DDAF2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BD1F-B3A1-478F-B8F8-750BAE36E5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3FA4-3262-4FBA-B29B-EB57C6721F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82CF-2BDC-4BFB-A1E2-3EF2543462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4E26-096D-4FAD-AE3C-E88AA4B594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927B-CCF7-4D37-AF92-01E7C5C006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C1B6-0EB6-43E1-9757-6BBE9F2D77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D91E-A354-47EC-99BB-ACB85DA269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B186-4EB5-4F14-A3D4-A7A03B1242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C980-17C6-4DE9-8CF1-A156BBD1B2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5A5C-4B86-4AA2-887A-08CFC4E1C2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5785-D11A-4433-8D9A-5D53EF3415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8BD4-F430-41BA-A623-0B7BC24F82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50C2-5663-470B-B616-3C784DAEB3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0BDA-6F7B-4D52-B9B2-D0B6ABB867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BB11-C49A-49F7-9C45-BD31D1029C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909E-E485-4840-A53B-BE3281D709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DF2C-5F38-4567-BAEC-71B0485F1E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7B50-CD73-42BE-878A-C188BE78A87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600E-1108-42CB-A01A-D7B5BD3E0D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0080-54CB-4887-AA3E-6B16136666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2BA8-2209-424E-BA9B-1BCF627BB5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A979-F5A9-43B9-B57A-D74A341610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7C60-0404-4D20-84F9-BDCF499503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8A17-EB66-48A9-A19F-2152D606AD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2854-2EEB-4990-9F42-E4FBDE1C89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968B-3FF6-4CB8-9546-64912EE4E8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44A0-F0FD-428A-BD4A-CA82356DC5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7474-C296-43A4-B626-7FF9EED129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3267-ABB1-4EAA-A1DF-7433785E6C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9E15-CFA6-4138-B227-3187F1BB2DB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7FCD-0C57-43B5-8057-2BEE70B2F9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A870-1B70-4A31-9F2A-EDCDEF3A7D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B6E9-9B0C-41B9-BFED-9662ABDC2E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ED2E-0587-4F21-9F0F-746E2D344C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CCDA-9D73-47F2-A216-A0B1B3C0FC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775D-1A8C-48E6-B098-DA2785F88A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9AEE-930E-4691-AFC3-80E2D57820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40EC-3881-4F9E-9984-076B63FAB3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85760" y="3056040"/>
            <a:ext cx="87724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19240" y="162000"/>
            <a:ext cx="8705520" cy="6534000"/>
          </a:xfrm>
          <a:prstGeom prst="rect">
            <a:avLst/>
          </a:prstGeom>
          <a:ln w="0">
            <a:noFill/>
          </a:ln>
        </p:spPr>
      </p:pic>
      <p:pic>
        <p:nvPicPr>
          <p:cNvPr id="1007" name="图片 6147" descr=""/>
          <p:cNvPicPr/>
          <p:nvPr/>
        </p:nvPicPr>
        <p:blipFill>
          <a:blip r:embed="rId2"/>
          <a:stretch/>
        </p:blipFill>
        <p:spPr>
          <a:xfrm>
            <a:off x="981000" y="1835280"/>
            <a:ext cx="7623360" cy="4833720"/>
          </a:xfrm>
          <a:prstGeom prst="rect">
            <a:avLst/>
          </a:prstGeom>
          <a:ln w="0">
            <a:noFill/>
          </a:ln>
        </p:spPr>
      </p:pic>
      <p:sp>
        <p:nvSpPr>
          <p:cNvPr id="1008" name="椭圆 6148"/>
          <p:cNvSpPr/>
          <p:nvPr/>
        </p:nvSpPr>
        <p:spPr>
          <a:xfrm>
            <a:off x="6516720" y="2060640"/>
            <a:ext cx="1224000" cy="64908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椭圆 6149"/>
          <p:cNvSpPr/>
          <p:nvPr/>
        </p:nvSpPr>
        <p:spPr>
          <a:xfrm>
            <a:off x="4341960" y="2997360"/>
            <a:ext cx="1454040" cy="64908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椭圆 6150"/>
          <p:cNvSpPr/>
          <p:nvPr/>
        </p:nvSpPr>
        <p:spPr>
          <a:xfrm>
            <a:off x="6227640" y="3933720"/>
            <a:ext cx="1729080" cy="64944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椭圆 6151"/>
          <p:cNvSpPr/>
          <p:nvPr/>
        </p:nvSpPr>
        <p:spPr>
          <a:xfrm>
            <a:off x="4356000" y="4797360"/>
            <a:ext cx="1728720" cy="64944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椭圆 6152"/>
          <p:cNvSpPr/>
          <p:nvPr/>
        </p:nvSpPr>
        <p:spPr>
          <a:xfrm>
            <a:off x="6227640" y="5748480"/>
            <a:ext cx="1454400" cy="64908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图片 1" descr=""/>
          <p:cNvPicPr/>
          <p:nvPr/>
        </p:nvPicPr>
        <p:blipFill>
          <a:blip r:embed="rId1"/>
          <a:stretch/>
        </p:blipFill>
        <p:spPr>
          <a:xfrm>
            <a:off x="461880" y="758880"/>
            <a:ext cx="8220240" cy="592452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2"/>
          <a:stretch/>
        </p:blipFill>
        <p:spPr>
          <a:xfrm>
            <a:off x="1042920" y="2492280"/>
            <a:ext cx="259236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3"/>
          <a:stretch/>
        </p:blipFill>
        <p:spPr>
          <a:xfrm>
            <a:off x="5508720" y="2492280"/>
            <a:ext cx="259236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4"/>
          <a:stretch/>
        </p:blipFill>
        <p:spPr>
          <a:xfrm>
            <a:off x="1042920" y="5373720"/>
            <a:ext cx="2592360" cy="12952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5"/>
          <a:stretch/>
        </p:blipFill>
        <p:spPr>
          <a:xfrm>
            <a:off x="5508720" y="5373720"/>
            <a:ext cx="25923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1365120" y="682560"/>
            <a:ext cx="6062760" cy="61228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2987640" y="3429000"/>
            <a:ext cx="360036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2411280" y="4005360"/>
            <a:ext cx="3600720" cy="4474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4"/>
          <a:stretch/>
        </p:blipFill>
        <p:spPr>
          <a:xfrm>
            <a:off x="2484360" y="4581360"/>
            <a:ext cx="360036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5"/>
          <a:stretch/>
        </p:blipFill>
        <p:spPr>
          <a:xfrm>
            <a:off x="2484360" y="5157720"/>
            <a:ext cx="360036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6"/>
          <a:stretch/>
        </p:blipFill>
        <p:spPr>
          <a:xfrm>
            <a:off x="2556000" y="5734080"/>
            <a:ext cx="3600360" cy="447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7"/>
          <a:stretch/>
        </p:blipFill>
        <p:spPr>
          <a:xfrm>
            <a:off x="2556000" y="6367320"/>
            <a:ext cx="3600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1695600" y="1471680"/>
            <a:ext cx="5752800" cy="39146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266544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2195640" y="403380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2195640" y="4724280"/>
            <a:ext cx="540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262080" y="1271520"/>
            <a:ext cx="8619840" cy="43149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1763640" y="3500280"/>
            <a:ext cx="388800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1476360" y="4164120"/>
            <a:ext cx="388764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4"/>
          <a:stretch/>
        </p:blipFill>
        <p:spPr>
          <a:xfrm>
            <a:off x="1476360" y="4797360"/>
            <a:ext cx="3887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1538280" y="981000"/>
            <a:ext cx="6067440" cy="48960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2340000" y="1757520"/>
            <a:ext cx="4896000" cy="4474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2340000" y="2421000"/>
            <a:ext cx="4896000" cy="4474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2411280" y="3068640"/>
            <a:ext cx="489600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5"/>
          <a:stretch/>
        </p:blipFill>
        <p:spPr>
          <a:xfrm>
            <a:off x="2411280" y="3716280"/>
            <a:ext cx="489600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6"/>
          <a:stretch/>
        </p:blipFill>
        <p:spPr>
          <a:xfrm>
            <a:off x="2556000" y="4365720"/>
            <a:ext cx="489564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7"/>
          <a:stretch/>
        </p:blipFill>
        <p:spPr>
          <a:xfrm>
            <a:off x="2627280" y="5013360"/>
            <a:ext cx="4896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162000" y="822240"/>
            <a:ext cx="8820000" cy="584856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12290" descr=""/>
          <p:cNvPicPr/>
          <p:nvPr/>
        </p:nvPicPr>
        <p:blipFill>
          <a:blip r:embed="rId2"/>
          <a:stretch/>
        </p:blipFill>
        <p:spPr>
          <a:xfrm>
            <a:off x="971640" y="2378160"/>
            <a:ext cx="6200640" cy="4133880"/>
          </a:xfrm>
          <a:prstGeom prst="rect">
            <a:avLst/>
          </a:prstGeom>
          <a:ln w="0">
            <a:noFill/>
          </a:ln>
        </p:spPr>
      </p:pic>
      <p:sp>
        <p:nvSpPr>
          <p:cNvPr id="1042" name="椭圆 12291"/>
          <p:cNvSpPr/>
          <p:nvPr/>
        </p:nvSpPr>
        <p:spPr>
          <a:xfrm>
            <a:off x="2109960" y="3457440"/>
            <a:ext cx="431640" cy="43344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椭圆 12292"/>
          <p:cNvSpPr/>
          <p:nvPr/>
        </p:nvSpPr>
        <p:spPr>
          <a:xfrm>
            <a:off x="1403280" y="5013360"/>
            <a:ext cx="432000" cy="43344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185760" y="1328760"/>
            <a:ext cx="8772480" cy="4200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1547640" y="4149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6516720" y="422100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1619280" y="479736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5"/>
          <a:stretch/>
        </p:blipFill>
        <p:spPr>
          <a:xfrm>
            <a:off x="6372360" y="4869000"/>
            <a:ext cx="79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12:21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